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65DC-27BF-4542-BB6C-8DDBACC18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61920" y="137880"/>
            <a:ext cx="7826400" cy="13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34800" y="1584000"/>
            <a:ext cx="755172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34800" y="4172760"/>
            <a:ext cx="755172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8E7C-AE7C-4FC7-AD66-845F0C5EF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61920" y="137880"/>
            <a:ext cx="7826400" cy="13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34800" y="1584000"/>
            <a:ext cx="36849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04440" y="1584000"/>
            <a:ext cx="36849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34800" y="4172760"/>
            <a:ext cx="36849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04440" y="4172760"/>
            <a:ext cx="36849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BB30-18FE-4D5B-82E6-0F216F436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61920" y="137880"/>
            <a:ext cx="7826400" cy="13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34800" y="1584000"/>
            <a:ext cx="243144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88280" y="1584000"/>
            <a:ext cx="243144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41760" y="1584000"/>
            <a:ext cx="243144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34800" y="4172760"/>
            <a:ext cx="243144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88280" y="4172760"/>
            <a:ext cx="243144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41760" y="4172760"/>
            <a:ext cx="243144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86BE-E71F-4B6A-8ECE-6656B602C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2C5E2-5671-4032-9EE5-0686BECC3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37880"/>
            <a:ext cx="7826400" cy="13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34800" y="1584000"/>
            <a:ext cx="7551720" cy="49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77A62-3F9F-41BF-BB69-2EA74ED3D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61920" y="137880"/>
            <a:ext cx="7826400" cy="13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34800" y="1584000"/>
            <a:ext cx="755172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2D2E0-7169-49F5-81CD-66B7C2F18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61920" y="137880"/>
            <a:ext cx="7826400" cy="13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34800" y="1584000"/>
            <a:ext cx="368496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04440" y="1584000"/>
            <a:ext cx="368496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156B3-FB45-4D60-9981-29072B64C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61920" y="137880"/>
            <a:ext cx="7826400" cy="13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04B82-46A7-44F7-B771-900344D8F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61920" y="137880"/>
            <a:ext cx="7826400" cy="63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07C47-D229-46BF-96A8-22DDD614C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61920" y="137880"/>
            <a:ext cx="7826400" cy="13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34800" y="1584000"/>
            <a:ext cx="36849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04440" y="1584000"/>
            <a:ext cx="368496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34800" y="4172760"/>
            <a:ext cx="36849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A3559-C494-42DE-AF77-7814AE626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61920" y="137880"/>
            <a:ext cx="7826400" cy="13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34800" y="1584000"/>
            <a:ext cx="7551720" cy="49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0B5B-8826-4245-B903-A5C48738D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61920" y="137880"/>
            <a:ext cx="7826400" cy="13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34800" y="1584000"/>
            <a:ext cx="368496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04440" y="1584000"/>
            <a:ext cx="36849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04440" y="4172760"/>
            <a:ext cx="36849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35C24-C366-4B10-A450-B94A7838A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61920" y="137880"/>
            <a:ext cx="7826400" cy="13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34800" y="1584000"/>
            <a:ext cx="36849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04440" y="1584000"/>
            <a:ext cx="36849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34800" y="4172760"/>
            <a:ext cx="755172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B230C-0CF0-4D5F-A634-A02B38C37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61920" y="137880"/>
            <a:ext cx="7826400" cy="13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34800" y="1584000"/>
            <a:ext cx="755172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234800" y="4172760"/>
            <a:ext cx="755172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B04CD-BC74-407B-AF9C-FFDE10541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61920" y="137880"/>
            <a:ext cx="7826400" cy="13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34800" y="1584000"/>
            <a:ext cx="36849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04440" y="1584000"/>
            <a:ext cx="36849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34800" y="4172760"/>
            <a:ext cx="36849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04440" y="4172760"/>
            <a:ext cx="36849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FC64C-DC99-41C7-91AD-CF65D5064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61920" y="137880"/>
            <a:ext cx="7826400" cy="13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34800" y="1584000"/>
            <a:ext cx="243144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788280" y="1584000"/>
            <a:ext cx="243144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41760" y="1584000"/>
            <a:ext cx="243144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234800" y="4172760"/>
            <a:ext cx="243144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788280" y="4172760"/>
            <a:ext cx="243144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41760" y="4172760"/>
            <a:ext cx="243144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2119A-4230-424F-9E4A-17560EDD2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61920" y="137880"/>
            <a:ext cx="7826400" cy="13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34800" y="1584000"/>
            <a:ext cx="755172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327E-CDC2-4C4A-82D1-35D45CDAC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61920" y="137880"/>
            <a:ext cx="7826400" cy="13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34800" y="1584000"/>
            <a:ext cx="368496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04440" y="1584000"/>
            <a:ext cx="368496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FDAF-D9D6-4784-B8B7-A990221BB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61920" y="137880"/>
            <a:ext cx="7826400" cy="13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E36A-BB59-47A7-ACDD-274EF78B0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61920" y="137880"/>
            <a:ext cx="7826400" cy="63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5A80-1ADB-4691-8281-00DF12FA6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61920" y="137880"/>
            <a:ext cx="7826400" cy="13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34800" y="1584000"/>
            <a:ext cx="36849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04440" y="1584000"/>
            <a:ext cx="368496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34800" y="4172760"/>
            <a:ext cx="36849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32A1-B85B-4636-AD8B-7EB1D4F49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61920" y="137880"/>
            <a:ext cx="7826400" cy="13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34800" y="1584000"/>
            <a:ext cx="368496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04440" y="1584000"/>
            <a:ext cx="36849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04440" y="4172760"/>
            <a:ext cx="36849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CDB8-C5EC-482E-9D52-B3BD7C4DE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61920" y="137880"/>
            <a:ext cx="7826400" cy="13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34800" y="1584000"/>
            <a:ext cx="36849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04440" y="1584000"/>
            <a:ext cx="36849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34800" y="4172760"/>
            <a:ext cx="755172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CDBF-7AF2-4FFD-8295-E1438CD2E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8" descr="C:\Documents and Settings\Rami\Desktop\Ramis Work\PresPro\Templates_07_July_2004\Biotech\JPGS\PPP_SBIOT_TXT_DNA_Structur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61920" y="137880"/>
            <a:ext cx="7826400" cy="13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34800" y="1584000"/>
            <a:ext cx="755172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3" marL="1598760" indent="-227160">
              <a:spcBef>
                <a:spcPts val="6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2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6440" y="6624720"/>
            <a:ext cx="1905120" cy="23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57200" y="6624720"/>
            <a:ext cx="2894040" cy="23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70760" y="6624720"/>
            <a:ext cx="1905120" cy="23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D3C9C-59D4-47D3-A4AD-A0DC42D82F84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3" descr="C:\Documents and Settings\Rami\Desktop\Ramis Work\PresPro\Templates_07_July_2004\Biotech\JPGS\PPP_SBIOT_TLE_DNA_Structur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9360">
            <a:solidFill>
              <a:srgbClr val="339966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61920" y="137880"/>
            <a:ext cx="7826400" cy="13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234800" y="1584000"/>
            <a:ext cx="755172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3" marL="1598760" indent="-227160">
              <a:spcBef>
                <a:spcPts val="6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2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0" y="6706800"/>
            <a:ext cx="1905120" cy="16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692400"/>
            <a:ext cx="2895840" cy="16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238880" y="6692400"/>
            <a:ext cx="1905120" cy="16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C4B2C-DC5D-4857-80C4-5BE64629F4F0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3668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LOGAREA PE ORACLE APEX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Adresa server: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http://iacademy.oracle.com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332000" y="2637000"/>
            <a:ext cx="6553080" cy="0"/>
          </a:xfrm>
          <a:prstGeom prst="line">
            <a:avLst/>
          </a:prstGeom>
          <a:ln w="63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61920" y="137880"/>
            <a:ext cx="7826400" cy="13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1. Completati datele de identificar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34800" y="1584000"/>
            <a:ext cx="755172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619280" y="1434960"/>
            <a:ext cx="6481800" cy="50626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556000" y="3860640"/>
            <a:ext cx="79200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3348000" y="3645000"/>
            <a:ext cx="2448000" cy="360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627280" y="4148280"/>
            <a:ext cx="79236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627280" y="4149720"/>
            <a:ext cx="79236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3392640" y="4149720"/>
            <a:ext cx="2403360" cy="1573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629080" y="4437000"/>
            <a:ext cx="647640" cy="287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61920" y="137880"/>
            <a:ext cx="7826400" cy="13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34800" y="1584000"/>
            <a:ext cx="755172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908000" y="2133720"/>
            <a:ext cx="5473800" cy="26794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 flipH="1">
            <a:off x="4932000" y="2708280"/>
            <a:ext cx="863640" cy="936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07:15:22Z</dcterms:created>
  <dc:creator>Tomsa.Gelu</dc:creator>
  <dc:description/>
  <cp:keywords/>
  <dc:language>en-US</dc:language>
  <cp:lastModifiedBy>Tomsa.Gelu</cp:lastModifiedBy>
  <dcterms:modified xsi:type="dcterms:W3CDTF">2010-11-23T09:08:35Z</dcterms:modified>
  <cp:revision>2</cp:revision>
  <dc:subject/>
  <dc:title>LOGAREA PE ORACLE APE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862081033</vt:lpwstr>
  </property>
</Properties>
</file>